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C74-527E-431D-BE7D-1B6488A2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8BB-459A-4974-9C54-EC0D2283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9FB-703A-4FEA-A211-8AC56CA1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B87-8A26-452A-8D64-A9F9D35D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38A-3E2B-43FC-8034-79FFEBBAC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3719-A970-4C09-8ACE-3F6C6869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AC1-CE22-42FB-897A-A399F45A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0E63-814E-45EB-896F-62F1011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194A-75F8-4975-A426-E5CBE0C1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A86-53A4-43B8-BE48-D95ABC12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5642-7ACF-4DA8-A606-041DA1E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FE3-7D84-480F-8C64-B21971D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F560-5455-4CAC-941B-663F4A75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79DD-00A0-4A9A-94E0-6588DFBD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EA79-6CF7-4B62-9C87-8B987FDB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07F8-9F55-463E-9752-C61E5783F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106B-A033-43D5-87A9-F7A1CE855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E2E-46E6-4A16-B2ED-C5E1D9C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030A-E71F-4745-B2E7-42B88B67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679B-C4E3-447B-92BA-39D5B90D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DBE8-5B9A-4949-B027-06C1EE64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7D88-FC85-4731-9E82-2B7911D0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355-D366-45EA-AF06-83582BB1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617-0473-4761-80CF-EF7BE96A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77A6-8255-4705-9AD5-C8BB7A1C4A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2DFC-96F3-4BEB-B888-E28EE3CD8F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1:47:56Z</dcterms:modified>
  <cp:revision>39</cp:revision>
  <dc:subject/>
  <dc:title>Структура собственных доходов на 2016 год бюджета Дальнереченского городского округа</dc:title>
</cp:coreProperties>
</file>